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7C90-2BCB-413C-B60A-78F6FBFA24F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074B-5E23-47F1-9060-BE5A136B181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E8A-E002-41AE-8E2C-200D6F09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FB8-E72B-4174-94F1-1B6D4E92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66C-6092-4AF5-A379-5529777C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C3D-E58F-42D7-8E78-A53B499F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2A3A-B610-47AD-9DFD-DF6DFC44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75B6-A830-4CF5-8D72-F16DB9DB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1B2-BD0F-4C33-AA21-B8DFC026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37F-95BA-4B7A-AA7F-EF704E50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97A7-205F-43F1-96E7-CF04C79E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E70-0CF7-4C98-8552-0F7F9408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9FC-D09E-4198-9665-B2CC5442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DAF7-8A5D-4776-947B-20C0F74A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91F9-1EA9-44AA-B103-C010FC7D31D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943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Calibri"/>
              </a:rPr>
              <a:t>Autonomy in </a:t>
            </a:r>
            <a:br>
              <a:rPr sz="5900"/>
            </a:br>
            <a:r>
              <a:rPr b="1" lang="en-US" sz="5900" spc="-1" strike="noStrike">
                <a:solidFill>
                  <a:srgbClr val="000000"/>
                </a:solidFill>
                <a:latin typeface="Calibri"/>
              </a:rPr>
              <a:t>language learning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bers:   Cheung Lai Ling, Ec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oy Wai Yan, Vivi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sang Man Yin, Ang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libri"/>
              </a:rPr>
              <a:t>Factors affecting 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Calibri"/>
              </a:rPr>
              <a:t>the development of learners’ autonom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71144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ents’ belief in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d9d9d9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Calibri"/>
              </a:rPr>
              <a:t>Role of the teac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or VS Facilit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d9d9d9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Calibri"/>
              </a:rPr>
              <a:t>Role of feedb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ve VS Evalu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d9d9d9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Calibri"/>
              </a:rPr>
              <a:t>Learner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room  learning VS Self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d9d9d9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Calibri"/>
              </a:rPr>
              <a:t>Learner confidence in study 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tivated VS Unmotiva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d9d9d9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Calibri"/>
              </a:rPr>
              <a:t>Experience of language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rience VS Inexperi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01"/>
              </a:spcBef>
              <a:buClr>
                <a:srgbClr val="d9d9d9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Calibri"/>
              </a:rPr>
              <a:t>Approach to stud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rn the language VS Use the langu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Reasons for teacher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o foster learners’ autono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 who take the initiative in learning (Proactive learners)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learn more thing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learn bet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 do people who sit at the feet of teachers, passively waiting to be taught (Reactive learners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enter into learning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more purposefull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with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greater motiv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Reasons for language teachers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o foster learners’ aut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past two decades, as our language teaching practice shifted to a more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communicative approac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t has also become more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learner-center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language teachers,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language learners are becoming the source of inform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class activities and the focus of curriculum design (Campbell and Kryszewska, 1992; Nunan, 1993; Tarone and Yule, 1989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relationship betwe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utonomy and motiv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rners’ active and independent involvement in their own learning (autonomy) </a:t>
            </a: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increases motivation to learn and consequently increases learning effectivenes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” (Dickinson, 1995, p.165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utonomous learners can </a:t>
            </a: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identify goals, formulate their own goals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</a:t>
            </a: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change goals to suit their own learning needs and interests;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are able to </a:t>
            </a: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use learning strategies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to </a:t>
            </a: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monitor their own lear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relationship betwe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utonomy and motiv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Extrinsic motivation (Teacher-center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d9d9"/>
                </a:solidFill>
                <a:latin typeface="Calibri"/>
              </a:rPr>
              <a:t>Use extrinsic incen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ades, Praise, Rewa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d9d9"/>
                </a:solidFill>
                <a:latin typeface="Calibri"/>
              </a:rPr>
              <a:t>Use controlling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ercise, tests and ex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Intrinsic motivation (Learner-center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d9d9"/>
                </a:solidFill>
                <a:latin typeface="Calibri"/>
              </a:rPr>
              <a:t>Use intrinsic incentiv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lain the purpose of language lear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d9d9"/>
                </a:solidFill>
                <a:latin typeface="Calibri"/>
              </a:rPr>
              <a:t>Provide uncontrolled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uthentic contex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ays for teacher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o foster learners’ autono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f2f2"/>
                </a:solidFill>
                <a:latin typeface="Calibri"/>
              </a:rPr>
              <a:t>In  the area of independent work, teachers need to consider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Students’ motivation by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arifying the relationship of the tasks to their own needs and objectiv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Students’ confidence by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ginning with structured and controlled tasks to creative task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Students’ knowledge and skills by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ing a systematic approach to familiarizing students with the tasks.  i.e., from easy to difficul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ays for teacher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o foster learners’ autono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2f2f2"/>
                </a:solidFill>
                <a:latin typeface="Calibri"/>
              </a:rPr>
              <a:t>In  the area of communication strategies, we need to explo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Ways of encouraging learners to be ready to take risks and make errors in communic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-threatening atmosphe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Ways of increasing students’ confidence in their ability to communicate  successful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itive feedbac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Ways of making students aware of specific strategies for compensating  gaps in their linguistic knowledg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exchan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ays for teacher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o foster learners’ autono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Create a space for students to construct their personal learning contex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 through experiential learning (Project work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Learner-centered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use tasks which allow learners to personalize their languag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d9d9"/>
                </a:solidFill>
                <a:latin typeface="Calibri"/>
              </a:rPr>
              <a:t>To what extent </a:t>
            </a:r>
            <a:r>
              <a:rPr b="0" lang="en-US" sz="2700" spc="-1" strike="noStrike">
                <a:solidFill>
                  <a:srgbClr val="ffff00"/>
                </a:solidFill>
                <a:latin typeface="Calibri"/>
              </a:rPr>
              <a:t>do your students have autonomy</a:t>
            </a:r>
            <a:r>
              <a:rPr b="0" lang="en-US" sz="2700" spc="-1" strike="noStrike">
                <a:solidFill>
                  <a:srgbClr val="d9d9d9"/>
                </a:solidFill>
                <a:latin typeface="Calibri"/>
              </a:rPr>
              <a:t> in learning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Calibri"/>
              </a:rPr>
              <a:t>What strategies did you use </a:t>
            </a:r>
            <a:r>
              <a:rPr b="0" lang="en-US" sz="2700" spc="-1" strike="noStrike">
                <a:solidFill>
                  <a:srgbClr val="d9d9d9"/>
                </a:solidFill>
                <a:latin typeface="Calibri"/>
              </a:rPr>
              <a:t>to help your students develop autonomy in language learning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d9d9"/>
                </a:solidFill>
                <a:latin typeface="Calibri"/>
              </a:rPr>
              <a:t>What are </a:t>
            </a:r>
            <a:r>
              <a:rPr b="0" lang="en-US" sz="2700" spc="-1" strike="noStrike">
                <a:solidFill>
                  <a:srgbClr val="ffff00"/>
                </a:solidFill>
                <a:latin typeface="Calibri"/>
              </a:rPr>
              <a:t>the factors that afford and constrain </a:t>
            </a:r>
            <a:r>
              <a:rPr b="0" lang="en-US" sz="2700" spc="-1" strike="noStrike">
                <a:solidFill>
                  <a:srgbClr val="d9d9d9"/>
                </a:solidFill>
                <a:latin typeface="Calibri"/>
              </a:rPr>
              <a:t>students’ autonomy in language learning in your school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d9d9"/>
                </a:solidFill>
                <a:latin typeface="Calibri"/>
              </a:rPr>
              <a:t>Can you think of </a:t>
            </a:r>
            <a:r>
              <a:rPr b="0" lang="en-US" sz="2700" spc="-1" strike="noStrike">
                <a:solidFill>
                  <a:srgbClr val="ffff00"/>
                </a:solidFill>
                <a:latin typeface="Calibri"/>
              </a:rPr>
              <a:t>other possible ways to stretch their autonomy</a:t>
            </a:r>
            <a:r>
              <a:rPr b="0" lang="en-US" sz="2700" spc="-1" strike="noStrike">
                <a:solidFill>
                  <a:srgbClr val="d9d9d9"/>
                </a:solidFill>
                <a:latin typeface="Calibri"/>
              </a:rPr>
              <a:t> in learning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We want our students to have autonomy in a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teacher-directed classroom setting</a:t>
            </a: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, in settings such as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self-access learning centers </a:t>
            </a: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and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in the real world</a:t>
            </a: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Teachers have a very important role in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helping language learners understand learning strategies</a:t>
            </a: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 and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expand their own self-direction in learning</a:t>
            </a: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hat is Learner Autonom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Calibri"/>
              </a:rPr>
              <a:t>Definition of learner auton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 the core of the notion of autonomy are the </a:t>
            </a:r>
            <a:r>
              <a:rPr b="0" lang="en-US" sz="2600" spc="-1" strike="noStrike">
                <a:solidFill>
                  <a:srgbClr val="ffff99"/>
                </a:solidFill>
                <a:latin typeface="Calibri"/>
              </a:rPr>
              <a:t>learners’ </a:t>
            </a:r>
            <a:r>
              <a:rPr b="0" lang="en-US" sz="2600" spc="-1" strike="noStrike" u="sng">
                <a:solidFill>
                  <a:srgbClr val="ffff99"/>
                </a:solidFill>
                <a:uFillTx/>
                <a:latin typeface="Calibri"/>
              </a:rPr>
              <a:t>ability and willingness</a:t>
            </a:r>
            <a:r>
              <a:rPr b="0" lang="en-US" sz="2600" spc="-1" strike="noStrike">
                <a:solidFill>
                  <a:srgbClr val="ffff99"/>
                </a:solidFill>
                <a:latin typeface="Calibri"/>
              </a:rPr>
              <a:t> to make choice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ependently” (Littlewood, 1996, p.427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Calibri"/>
              </a:rPr>
              <a:t>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Calibri"/>
              </a:rPr>
              <a:t>knowledge and skill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at helps an individual to be able to make choi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d9d9"/>
                </a:solidFill>
                <a:latin typeface="Calibri"/>
              </a:rPr>
              <a:t>Willing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Calibri"/>
              </a:rPr>
              <a:t>motivation and confidenc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at helps an individual to take responsibility for the choices requir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9d9d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We need to be open for the new roles of teachers as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helpers, facilitators, advisors, guides</a:t>
            </a: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d9d9d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d9d9d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We need to construct a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shared understanding of the language learning process</a:t>
            </a: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 in order to foster students’ learning autonomy. (i.e., shared belie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d9d9d9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ugg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7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7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d9d9d9"/>
                </a:solidFill>
                <a:latin typeface="Calibri"/>
              </a:rPr>
              <a:t>Some students lacked self-disciplined and needed support from each other and the teacher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75"/>
              </a:spcBef>
              <a:buClr>
                <a:srgbClr val="ffff99"/>
              </a:buClr>
              <a:buFont typeface="Wingdings" charset="2"/>
              <a:buChar char="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Calibri"/>
              </a:rPr>
              <a:t>We cannot force, beg or threaten students </a:t>
            </a:r>
            <a:r>
              <a:rPr b="0" lang="en-US" sz="2700" spc="-1" strike="noStrike">
                <a:solidFill>
                  <a:srgbClr val="d9d9d9"/>
                </a:solidFill>
                <a:latin typeface="Calibri"/>
              </a:rPr>
              <a:t>into learnin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75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Calibri"/>
              </a:rPr>
              <a:t>Provide structured formats</a:t>
            </a:r>
            <a:r>
              <a:rPr b="0" lang="en-US" sz="2700" spc="-1" strike="noStrike">
                <a:solidFill>
                  <a:srgbClr val="d9d9d9"/>
                </a:solidFill>
                <a:latin typeface="Calibri"/>
              </a:rPr>
              <a:t>, such as peer support group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7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Sugg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d9d9d9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Teacher need to persuade students tha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d9d9d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d9d9"/>
                </a:solidFill>
                <a:latin typeface="Calibri"/>
              </a:rPr>
              <a:t>they are </a:t>
            </a: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capable of self-assess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assessment is not something that needs to be left to teachers</a:t>
            </a:r>
            <a:r>
              <a:rPr b="0" lang="en-US" sz="2800" spc="-1" strike="noStrike">
                <a:solidFill>
                  <a:srgbClr val="d9d9d9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To facilitate authentic self-assessment</a:t>
            </a:r>
            <a:r>
              <a:rPr b="0" lang="en-US" sz="2800" spc="-1" strike="noStrike">
                <a:solidFill>
                  <a:srgbClr val="d9d9d9"/>
                </a:solidFill>
                <a:latin typeface="Calibri"/>
              </a:rPr>
              <a:t> by students, teachers </a:t>
            </a: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suggest that students use local bilingual resources </a:t>
            </a:r>
            <a:r>
              <a:rPr b="0" lang="en-US" sz="2800" spc="-1" strike="noStrike">
                <a:solidFill>
                  <a:srgbClr val="d9d9d9"/>
                </a:solidFill>
                <a:latin typeface="Calibri"/>
              </a:rPr>
              <a:t>might such as television news, films with subtitles and written materials (Gardner, 1996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Cotterall, S. (1995). Readiness for autonomy: Investigating learner beliefs. </a:t>
            </a:r>
            <a:r>
              <a:rPr b="0" i="1" lang="en-US" sz="2500" spc="-1" strike="noStrike">
                <a:solidFill>
                  <a:srgbClr val="d9d9d9"/>
                </a:solidFill>
                <a:latin typeface="Calibri"/>
              </a:rPr>
              <a:t>System</a:t>
            </a: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, 23(2), 195-20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Dickinson, L. (1995). Autonomy and motivation – A literature Review. System, 23(2), 165-174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Littlewood, W. (1996). “Autonomy”: An Anatomy and a framework. </a:t>
            </a:r>
            <a:r>
              <a:rPr b="0" i="1" lang="en-US" sz="2500" spc="-1" strike="noStrike">
                <a:solidFill>
                  <a:srgbClr val="d9d9d9"/>
                </a:solidFill>
                <a:latin typeface="Calibri"/>
              </a:rPr>
              <a:t>System</a:t>
            </a: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, 24(4), 427-43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Yang, N. D. (1998). Exploring a new role for teachers: Promoting learner autonomy. </a:t>
            </a:r>
            <a:r>
              <a:rPr b="0" i="1" lang="en-US" sz="2500" spc="-1" strike="noStrike">
                <a:solidFill>
                  <a:srgbClr val="d9d9d9"/>
                </a:solidFill>
                <a:latin typeface="Calibri"/>
              </a:rPr>
              <a:t>System, </a:t>
            </a: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26, 127-13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>
              <a:lnSpc>
                <a:spcPct val="80000"/>
              </a:lnSpc>
              <a:spcBef>
                <a:spcPts val="624"/>
              </a:spcBef>
              <a:buClr>
                <a:srgbClr val="d9d9d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d9d9d9"/>
                </a:solidFill>
                <a:latin typeface="Calibri"/>
              </a:rPr>
              <a:t>Gardner, D., (</a:t>
            </a: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1</a:t>
            </a:r>
            <a:r>
              <a:rPr b="0" lang="zh-TW" sz="2500" spc="-1" strike="noStrike">
                <a:solidFill>
                  <a:srgbClr val="d9d9d9"/>
                </a:solidFill>
                <a:latin typeface="Calibri"/>
              </a:rPr>
              <a:t>996). Self-assessment for self-access learners. </a:t>
            </a:r>
            <a:r>
              <a:rPr b="0" i="1" lang="zh-TW" sz="2500" spc="-1" strike="noStrike">
                <a:solidFill>
                  <a:srgbClr val="d9d9d9"/>
                </a:solidFill>
                <a:latin typeface="Calibri"/>
              </a:rPr>
              <a:t>TESOL Journal 5</a:t>
            </a:r>
            <a:r>
              <a:rPr b="0" lang="zh-TW" sz="2500" spc="-1" strike="noStrike">
                <a:solidFill>
                  <a:srgbClr val="d9d9d9"/>
                </a:solidFill>
                <a:latin typeface="Calibri"/>
              </a:rPr>
              <a:t>, 18</a:t>
            </a:r>
            <a:r>
              <a:rPr b="0" lang="en-US" sz="2500" spc="-1" strike="noStrike">
                <a:solidFill>
                  <a:srgbClr val="d9d9d9"/>
                </a:solidFill>
                <a:latin typeface="Calibri"/>
              </a:rPr>
              <a:t>-</a:t>
            </a:r>
            <a:r>
              <a:rPr b="0" lang="zh-TW" sz="2500" spc="-1" strike="noStrike">
                <a:solidFill>
                  <a:srgbClr val="d9d9d9"/>
                </a:solidFill>
                <a:latin typeface="Calibri"/>
              </a:rPr>
              <a:t>23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he Goal of Tea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General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help learners become independent in </a:t>
            </a: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how they think, learn and beh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Language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help learners become independent from their teachers in their </a:t>
            </a: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learning and use of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omponents and Domains of Autonomy in Language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圓角化對角線角落矩形 5"/>
          <p:cNvSpPr/>
          <p:nvPr/>
        </p:nvSpPr>
        <p:spPr>
          <a:xfrm>
            <a:off x="1547640" y="1916280"/>
            <a:ext cx="2232360" cy="720720"/>
          </a:xfrm>
          <a:prstGeom prst="pie">
            <a:avLst/>
          </a:prstGeom>
          <a:solidFill>
            <a:srgbClr val="a6a6a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fiden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tiv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圓角矩形 8"/>
          <p:cNvSpPr/>
          <p:nvPr/>
        </p:nvSpPr>
        <p:spPr>
          <a:xfrm>
            <a:off x="539640" y="5300640"/>
            <a:ext cx="2376720" cy="1036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Autonomy 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Communicat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圓角化對角線角落矩形 9"/>
          <p:cNvSpPr/>
          <p:nvPr/>
        </p:nvSpPr>
        <p:spPr>
          <a:xfrm>
            <a:off x="5148360" y="1916280"/>
            <a:ext cx="2232000" cy="720720"/>
          </a:xfrm>
          <a:prstGeom prst="pie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圓角矩形 10"/>
          <p:cNvSpPr/>
          <p:nvPr/>
        </p:nvSpPr>
        <p:spPr>
          <a:xfrm>
            <a:off x="3419640" y="5345280"/>
            <a:ext cx="2304720" cy="1036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Autonomy 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Learn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圓角矩形 11"/>
          <p:cNvSpPr/>
          <p:nvPr/>
        </p:nvSpPr>
        <p:spPr>
          <a:xfrm>
            <a:off x="6227640" y="5345280"/>
            <a:ext cx="2305080" cy="1036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Autonomy 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Per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直線單箭頭接點 13"/>
          <p:cNvCxnSpPr/>
          <p:nvPr/>
        </p:nvCxnSpPr>
        <p:spPr>
          <a:xfrm>
            <a:off x="3808080" y="2349000"/>
            <a:ext cx="12978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sp>
        <p:nvSpPr>
          <p:cNvPr id="61" name="矩形 15"/>
          <p:cNvSpPr/>
          <p:nvPr/>
        </p:nvSpPr>
        <p:spPr>
          <a:xfrm>
            <a:off x="1835280" y="2997360"/>
            <a:ext cx="1728720" cy="57600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Willing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6"/>
          <p:cNvSpPr/>
          <p:nvPr/>
        </p:nvSpPr>
        <p:spPr>
          <a:xfrm>
            <a:off x="5364000" y="2997360"/>
            <a:ext cx="1729080" cy="57600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直線單箭頭接點 17"/>
          <p:cNvCxnSpPr/>
          <p:nvPr/>
        </p:nvCxnSpPr>
        <p:spPr>
          <a:xfrm>
            <a:off x="3708360" y="3284280"/>
            <a:ext cx="14403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sp>
        <p:nvSpPr>
          <p:cNvPr id="64" name="文字方塊 21"/>
          <p:cNvSpPr/>
          <p:nvPr/>
        </p:nvSpPr>
        <p:spPr>
          <a:xfrm>
            <a:off x="3203640" y="3645000"/>
            <a:ext cx="30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o carry out choices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單箭頭接點 22"/>
          <p:cNvCxnSpPr/>
          <p:nvPr/>
        </p:nvCxnSpPr>
        <p:spPr>
          <a:xfrm>
            <a:off x="3780000" y="4436640"/>
            <a:ext cx="12974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6" name="直線單箭頭接點 24"/>
          <p:cNvCxnSpPr/>
          <p:nvPr/>
        </p:nvCxnSpPr>
        <p:spPr>
          <a:xfrm flipV="1">
            <a:off x="2916360" y="5868720"/>
            <a:ext cx="567360" cy="8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7" name="直線單箭頭接點 26"/>
          <p:cNvCxnSpPr/>
          <p:nvPr/>
        </p:nvCxnSpPr>
        <p:spPr>
          <a:xfrm flipV="1">
            <a:off x="5651640" y="5876640"/>
            <a:ext cx="568800" cy="86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8" name="直線單箭頭接點 28"/>
          <p:cNvCxnSpPr/>
          <p:nvPr/>
        </p:nvCxnSpPr>
        <p:spPr>
          <a:xfrm flipH="1">
            <a:off x="1834560" y="4723920"/>
            <a:ext cx="1081800" cy="577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9" name="直線單箭頭接點 33"/>
          <p:cNvCxnSpPr>
            <a:stCxn id="70" idx="2"/>
          </p:cNvCxnSpPr>
          <p:nvPr/>
        </p:nvCxnSpPr>
        <p:spPr>
          <a:xfrm>
            <a:off x="2700360" y="4797360"/>
            <a:ext cx="1008720" cy="5040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0" name="矩形 19"/>
          <p:cNvSpPr/>
          <p:nvPr/>
        </p:nvSpPr>
        <p:spPr>
          <a:xfrm>
            <a:off x="1692360" y="4221000"/>
            <a:ext cx="2016000" cy="57636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fic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直線單箭頭接點 40"/>
          <p:cNvCxnSpPr>
            <a:stCxn id="72" idx="2"/>
          </p:cNvCxnSpPr>
          <p:nvPr/>
        </p:nvCxnSpPr>
        <p:spPr>
          <a:xfrm flipH="1">
            <a:off x="5148000" y="4797360"/>
            <a:ext cx="1152720" cy="5040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直線單箭頭接點 42"/>
          <p:cNvCxnSpPr>
            <a:endCxn id="59" idx="0"/>
          </p:cNvCxnSpPr>
          <p:nvPr/>
        </p:nvCxnSpPr>
        <p:spPr>
          <a:xfrm>
            <a:off x="6156360" y="4723920"/>
            <a:ext cx="1224720" cy="621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2" name="矩形 20"/>
          <p:cNvSpPr/>
          <p:nvPr/>
        </p:nvSpPr>
        <p:spPr>
          <a:xfrm>
            <a:off x="5292720" y="4221000"/>
            <a:ext cx="2016000" cy="576360"/>
          </a:xfrm>
          <a:prstGeom prst="rect">
            <a:avLst/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fe in Ge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utonomy in Language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Teachers’ r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rder to help learners to develop autonomy in their </a:t>
            </a: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process of acquiring the langu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teacher should consider </a:t>
            </a: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three domains (for different levels of autonom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751"/>
              </a:spcBef>
              <a:buClr>
                <a:srgbClr val="ffff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ommunication through langu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751"/>
              </a:spcBef>
              <a:buClr>
                <a:srgbClr val="ffff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Learning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751"/>
              </a:spcBef>
              <a:buClr>
                <a:srgbClr val="ffff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Students’ personal li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fferent Levels of Autonomy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n language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11280" y="1557360"/>
          <a:ext cx="7921440" cy="4694040"/>
        </p:xfrm>
        <a:graphic>
          <a:graphicData uri="http://schemas.openxmlformats.org/drawingml/2006/table">
            <a:tbl>
              <a:tblPr/>
              <a:tblGrid>
                <a:gridCol w="2448000"/>
                <a:gridCol w="2665080"/>
                <a:gridCol w="2808360"/>
              </a:tblGrid>
              <a:tr h="4694040">
                <a:tc>
                  <a:txBody>
                    <a:bodyPr lIns="17640" rIns="17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00000"/>
                        </a:buClr>
                        <a:buFont typeface="Times New Roman"/>
                        <a:buAutoNum type="arabicPeriod"/>
                        <a:tabLst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Communication</a:t>
                      </a:r>
                      <a:r>
                        <a:rPr b="1" lang="en-US" sz="2200" spc="-1" strike="noStrike">
                          <a:solidFill>
                            <a:srgbClr val="e46c0a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e46c0a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200" spc="-1" strike="noStrike">
                          <a:solidFill>
                            <a:srgbClr val="e46c0a"/>
                          </a:solidFill>
                          <a:latin typeface="Times New Roman"/>
                        </a:rPr>
                        <a:t>[Autonomy as communicators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ability to use the language creativel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ability to use appropriate strategies for communicating meaning in specific situ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make choices in grammar and vocabula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make choices in the meaning they intend to expr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make far-reaching decisions about goals, meanings and strategies (in different context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fferent Levels of Autonomy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n language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1712880"/>
          <a:ext cx="7921440" cy="4452840"/>
        </p:xfrm>
        <a:graphic>
          <a:graphicData uri="http://schemas.openxmlformats.org/drawingml/2006/table">
            <a:tbl>
              <a:tblPr/>
              <a:tblGrid>
                <a:gridCol w="2232000"/>
                <a:gridCol w="2520720"/>
                <a:gridCol w="3168720"/>
              </a:tblGrid>
              <a:tr h="4452840">
                <a:tc>
                  <a:txBody>
                    <a:bodyPr lIns="17640" rIns="17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. Learn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46c0a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e46c0a"/>
                          </a:solidFill>
                          <a:latin typeface="Times New Roman"/>
                        </a:rPr>
                        <a:t>[Autonomy as learner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ability to engage in independent 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ability to use appropriate learning strategies (inside and outside classroo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choose and shape their learning contexts (how can they learn better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make decisions in domains which have traditionally belonged to the teacher (e.g. materials, learning tasks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determine the nature and progression of their own syllab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Different Levels of Autonomy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n language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11280" y="1844640"/>
          <a:ext cx="7921440" cy="3816360"/>
        </p:xfrm>
        <a:graphic>
          <a:graphicData uri="http://schemas.openxmlformats.org/drawingml/2006/table">
            <a:tbl>
              <a:tblPr/>
              <a:tblGrid>
                <a:gridCol w="2232000"/>
                <a:gridCol w="2520720"/>
                <a:gridCol w="3168720"/>
              </a:tblGrid>
              <a:tr h="3816360">
                <a:tc>
                  <a:txBody>
                    <a:bodyPr lIns="17640" rIns="17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3. Personal li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54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e46c0a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200" spc="-1" strike="noStrike">
                          <a:solidFill>
                            <a:srgbClr val="e46c0a"/>
                          </a:solidFill>
                          <a:latin typeface="Times New Roman"/>
                        </a:rPr>
                        <a:t>[Autonomy as persons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ability to express personal meaning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ability to create personal learning contex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 use language independently outside classro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000" y="414000"/>
            <a:ext cx="886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Calibri"/>
              </a:rPr>
              <a:t>Factors affecting 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Calibri"/>
              </a:rPr>
              <a:t>the development of learners’ autonom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 behavior is governed by </a:t>
            </a: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beliefs and experienc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utonomous language learning behavior may be supported by a particular set of </a:t>
            </a: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beliefs or behavior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ehavior may </a:t>
            </a:r>
            <a:r>
              <a:rPr b="0" lang="en-US" sz="3000" spc="-1" strike="noStrike">
                <a:solidFill>
                  <a:srgbClr val="ffff99"/>
                </a:solidFill>
                <a:latin typeface="Calibri"/>
              </a:rPr>
              <a:t>either contribute to or imped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evelopment of their potential for autonom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07:43:06Z</dcterms:created>
  <dc:creator>Echo Cheung</dc:creator>
  <dc:description/>
  <dc:language>en-US</dc:language>
  <cp:lastModifiedBy>Jan Connelly</cp:lastModifiedBy>
  <dcterms:modified xsi:type="dcterms:W3CDTF">2012-03-01T09:09:34Z</dcterms:modified>
  <cp:revision>178</cp:revision>
  <dc:subject/>
  <dc:title>Learner Autonomy</dc:title>
</cp:coreProperties>
</file>